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B8CA9-62CA-483C-80D1-946E6AA4B6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35E5D-F329-4E42-8690-63802739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17E85-AAE8-41E2-9CF3-4303E38A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BA831-3402-4727-9CB8-5F47231E67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BB75D-57EE-4DCD-B3B8-EF17B622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65EB9-75A6-4AE0-B009-4EF406E4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6977A-2A19-4996-805E-4CE63E8F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2A6F0-9DA7-4639-AC8F-2B9D82F33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E98B8-4091-494F-ADED-EBC446D26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9B5C6-56AE-4573-96E9-7645A70F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96E5B-10EF-41A7-BB91-8EC3D392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5743E-D7C0-4A5F-8BD2-F267F5E2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F9EB-981F-4E6B-93E2-4CF1ACD0F8C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565000"/>
            <a:ext cx="504036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言语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012000" y="522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失语症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完全性失语： ① 是与否的反应建立；②手势反应建立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流畅性失语：①教会言语表达技能；②自动性言语；③看图说话；④描述训练。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失用：先学会词中的每个音、音节，最后是词。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语言发育迟缓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每个儿童语言发育迟缓检查、评价结果、语言特征来制订训练目标及方法。 ①匹配训练； ②手势符号训练 ；③扩大词汇量训练：词句训练、表达训练、文字训练、交流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口吃：  ①儿童：进行呼吸和呼吸气流的控制，每次呼气发一个单词，再后每次呼气发短语和短句，保持气流和发音的连续性，也可用一些词或音节唱歌进行节律训练； ②成人：控制言语节律与速度，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拍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开始训练，逐渐提高速度，还有韵律训练、齐读训练、听觉反馈仪器训练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五）言语治疗注意事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反馈的重要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关心患者状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确保交流手段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重视患者本人的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观察患者的异常反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154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言语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peech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个体根据所掌握的语文知识表达思想、进行交流的过程，实际上就是语言的传递过程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言语治疗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peech therapy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T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针对言语行为的听、说、读、写四个方面的功能障碍，采取相应的训练方法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治疗的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主要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提高患者应用语言进行交流的能力，其中以提高口语交流能力为主。语言治疗的主要手段是言语训练，或借助交流替代设备，如交流板、交流手册、手势语等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治疗的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增强患者的理解、表达及社交能力及技巧，从而提高日常与人沟通的能力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言语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早期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及时评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确定训练目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采用多种治疗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强调正确发音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言语治疗必须结合实际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循序渐进，及时反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动参与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言语康复的影响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训练场所的选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宽敞，最好在有隔音设施，室内要简洁、安静、光线充足、井然有序，一般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m</a:t>
            </a:r>
            <a:r>
              <a:rPr b="1" lang="en-US" sz="20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即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形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原则上以“一对一”训练为主，有时要进行集体训练。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治疗次数和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一般为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分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人，每日一次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卫生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预防各类传染病，训练物品要定期消毒，尽量用一次性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610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日常生活交流能力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参与家庭和社会活动，对于儿童要鼓励和其他小朋友一起玩耍 ，充分利用手势语、表情等可能利用的随意运动，将其作为日常生活交流的手段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吞咽障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口腔周围肌肉的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寒冷刺激法：用冰过的棉棒接触前腭弓并慢慢移动棉棒前端，进食前以冷却刺激进行口腔清洁，可提高食块知觉的敏感度和吞咽的注意力，从而减少误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也可进行呼吸训练、咳嗽训练，练习吹气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抑制异常反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的身体姿势、肌张力、肌力和运动协调的异常都直接影响其言语的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构音障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构音改善训练：①舌唇的运动训练； ②发音训练； ③减慢言语速度； ④辨音训练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克服鼻音化的训练： ①“推撑”疗法； ②引导气流法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6:52:14Z</dcterms:modified>
  <cp:revision>2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